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574FE-47A4-4135-86E8-7D5293A2B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AAC77-34F2-4B07-97FA-F6350BFD1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A867D-9480-42D7-AFED-6BB739A92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1F940-E89E-4153-8B5F-8B4590B3F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01F82-0CB9-4FFF-A5A2-542EC8C3C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24861-757D-4BBA-8C21-E32ABEC86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6E951-DBD4-4F98-ACEC-6091C443D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0BCF6-5146-4A45-B003-7D11B0EDA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597DC-92C9-4522-989A-67EE3431E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8BAB3-3133-4AFA-867E-5C50ED4AA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792EC-EA14-4D9E-9DB9-AE7890D90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0FED7-8C8F-415D-8AF6-57A71460B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D6FBF-9754-415F-B975-CDCFE5F990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en.wikipedia.org/wiki/First_Battle_of_Bull_Run" TargetMode="External"/><Relationship Id="rId3" Type="http://schemas.openxmlformats.org/officeDocument/2006/relationships/hyperlink" Target="http://www.sonofthesouth.net/leefoundation/battle-bull-run.htm" TargetMode="External"/><Relationship Id="rId4" Type="http://schemas.openxmlformats.org/officeDocument/2006/relationships/hyperlink" Target="http://www.historycentral.com/CivilWar/bullrun.html" TargetMode="External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First Battle of Bull Ru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: Lena and Lau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ortant Fa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ght July 21,18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s in Fairfax County and Prince William County in Virgin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ckson got the nickname of Stone wall because he was standing his ground like a stone w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attle was named after the small stream Bull Ru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also called the battle of Manass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irst battle of the Civil w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Different si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fede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my size was 32,000-34,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ers were Joseph E. Johnson and P.G.T. Beaureg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my size was 28,000-35,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rivin McDowell was the Comman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co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on casualties 2,89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federate casualties 1,98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nfederate army won The First Battle of Bull R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2743200" y="4038480"/>
            <a:ext cx="3171960" cy="24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i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Battle of bull r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First Battle of Bull R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Battle of Bull Run Pi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Battle of Bull Run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onew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ll Run Fa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merican Nation: Davidson, Castillo, and Stof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4T21:07:35Z</dcterms:created>
  <dc:creator>214021</dc:creator>
  <dc:description/>
  <dc:language>en-US</dc:language>
  <cp:lastModifiedBy>214021</cp:lastModifiedBy>
  <dcterms:modified xsi:type="dcterms:W3CDTF">2010-01-12T20:36:53Z</dcterms:modified>
  <cp:revision>4</cp:revision>
  <dc:subject/>
  <dc:title>The Battle of Bull Run One</dc:title>
</cp:coreProperties>
</file>